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02F-420E-4DFD-8F16-1981132C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AAF-127E-4CA6-A1C8-49C13AD9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F98-EF7D-4BE2-86CC-9B790F6E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F25-568E-4D23-9441-15C2794B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1A29-13D0-433E-BBC7-AF8819FB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8413-8888-4436-85A1-2331AAC9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396F-3F6E-4AB5-82FA-39275F71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C8AB-A266-41D6-A1D6-0A36845F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BF0A-7187-4A11-A433-5E7E4D80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BB26-4F53-4527-A097-14D144A1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F9C3-75A5-4890-8A75-E221DC8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4D4-FCE2-4C2A-8820-8E2B5614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3C9C-AD6E-4736-A016-AC002DE1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B9A7-44B5-4C82-A320-8E0C1B5A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3296-13D1-4588-9781-8E3884CD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1B93-1865-4A21-A98F-11EBE927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96F7-5561-4055-A966-04BA4B82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F4A-2B52-44EE-8316-89826522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A46-236B-45E3-9519-95A7518A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220-31AC-4867-BE84-2971C1A5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6DC-0099-4A31-823B-CF3D5853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81D-0A29-47C1-8086-C7407697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977-6A67-4602-92AD-16073414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B25-5C5A-4EA0-8227-1B51DAD8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5F0F-8610-4B5E-A14D-D6E1C27418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2E96-E0FC-47D8-9480-D054C21688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In cate zile a fost creata lumea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2895480"/>
            <a:ext cx="2362320" cy="1524240"/>
          </a:xfrm>
          <a:prstGeom prst="cloudCallout">
            <a:avLst>
              <a:gd name="adj1" fmla="val -92069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umnezeu este crea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 in ce mod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nde intalnim relatari despre modul de creatie a lumii?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owner</cp:lastModifiedBy>
  <dcterms:modified xsi:type="dcterms:W3CDTF">2009-09-07T08:57:15Z</dcterms:modified>
  <cp:revision>18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